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19F-0F4F-4742-B147-52B9A817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A8D-CDAB-45E2-B266-1B91C30D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6E3-6D0F-4B79-A4D7-1E8A414E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858-E6C6-4B2C-B494-5BE3A9FB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DEB1-AE15-4143-AFA6-D3EA0A0C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D3CA-BAFE-4FEA-9D2F-71AA9900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04FB-59DD-43D3-9B48-1C618E55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1C36-6287-4099-BDB0-6EB14722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A9C7-3881-4B7F-A61C-7B7FB112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70E3-60B3-4BAA-8A7A-E5F66329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ABB1-F970-4C1B-8A5C-60B2EB3D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424-3E2F-4A81-BF87-1EDF71A1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1A28-542E-444A-8C0F-E7E8C41E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0A80-508D-4041-9BEE-F018F6AC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7A3F-076A-4146-B072-B023729F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1781-74E2-4484-BD88-2A7FFC5B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26C1-4686-4D56-9AAC-595FB5F1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522-BD15-4AB1-8237-773DF5D5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166-DC45-41F4-AEEF-867B8B99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DCB-008A-412A-8BC5-6537E75F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8EE-F73E-48CF-B791-22E818F4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B52D-0972-43C7-A2AE-180A13D9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FE2-50F2-4091-8C5D-7F5ED0CE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8B6A-E9BC-48ED-9E15-64276534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E563-C224-4511-8C16-106276D1E8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4228-B62F-4D87-9E99-67EC50785D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1571400"/>
            <a:ext cx="628668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4857840"/>
            <a:ext cx="3857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с.Павлов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лтайский кр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353880" y="-55440"/>
            <a:ext cx="7656480" cy="106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1356840"/>
            <a:ext cx="6943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quia.com/files/quia/users/matmet/Graphics/Fancy-geometry-learn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rafamania.net/uploads/posts/2008-08/1219611582_7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39:28Z</dcterms:created>
  <dc:creator>Comp</dc:creator>
  <dc:description/>
  <dc:language>en-US</dc:language>
  <cp:lastModifiedBy>Comp</cp:lastModifiedBy>
  <dcterms:modified xsi:type="dcterms:W3CDTF">2011-07-28T11:15:35Z</dcterms:modified>
  <cp:revision>5</cp:revision>
  <dc:subject/>
  <dc:title>Слайд 1</dc:title>
</cp:coreProperties>
</file>