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922-66C1-4973-B5FF-F144F7D7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C1FB-94B0-4666-B64E-36FA4BA5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667-D5C9-47BF-9786-1F9B5FF5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E4D3-4065-4AB3-A6AC-E0737A7E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76B2-121A-4344-A674-622E759E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FB91-AA2A-4099-9AB4-583BD055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2569-3D6B-437E-9AB6-42C382AD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24B1-F15E-4898-9CA7-2961BC77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C4F0-F214-48DF-8B9A-7BC3B824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A28D-D58E-4144-A62E-65553781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44C6-8A75-449E-8683-8F938E07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E7B-A3CC-41E0-BDC4-98BFA040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5F15-DC00-447C-82C8-1E7C9C93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46C5-A36C-4BCA-8235-A6E21F6F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E828-D683-40EF-A659-813CC76F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248C-E8C2-4F38-92BA-74E4D968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F2DD-CAB1-42CE-A77A-CC27F8CB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B9E3-E803-4559-913D-46330E06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BFA3-B411-47B0-93E0-FA587853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7FAB-200B-464A-B251-379EF68D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A1F2-C37B-4B66-BDF8-2DDC6C3B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2EB-CE74-4E1E-807A-2B703A8F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BBC-5034-460F-9125-A18B9BE0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A0AA-2820-4A37-A254-E66B96CC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C249-8461-47D6-AE7A-E81339B000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464A-E75D-4CB1-99BE-597E046FA6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9720" y="2071440"/>
            <a:ext cx="74581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4071600"/>
            <a:ext cx="512928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81200" y="-6480"/>
            <a:ext cx="824040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642680" y="1357200"/>
            <a:ext cx="7358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caringbahlearningcentre.com.au/assets/images/calc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mathknowledge.com/images/custom/LOGO.G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proshkolu.ru/content/media/pic/std/1000000/248000/247659-a3befaa6af58cffa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642960" y="1357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3"/>
          <a:stretch/>
        </p:blipFill>
        <p:spPr>
          <a:xfrm>
            <a:off x="500040" y="257184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d:\Мои документы\Мои рисунки\девочка.jpeg"/>
          <p:cNvPicPr/>
          <p:nvPr/>
        </p:nvPicPr>
        <p:blipFill>
          <a:blip r:embed="rId4"/>
          <a:stretch/>
        </p:blipFill>
        <p:spPr>
          <a:xfrm>
            <a:off x="500040" y="3786120"/>
            <a:ext cx="10652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6:21:29Z</dcterms:created>
  <dc:creator>Comp</dc:creator>
  <dc:description/>
  <dc:language>en-US</dc:language>
  <cp:lastModifiedBy>Comp</cp:lastModifiedBy>
  <dcterms:modified xsi:type="dcterms:W3CDTF">2011-07-28T11:14:53Z</dcterms:modified>
  <cp:revision>4</cp:revision>
  <dc:subject/>
  <dc:title>Слайд 1</dc:title>
</cp:coreProperties>
</file>